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B6DB-88DD-48FD-898A-DD5771E54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8196-0455-4A0B-BBDF-81803AEB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D8EF-7EE4-4751-8590-049407A39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3B8F-6BA4-47C7-A9A5-142EEF25C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63D5-AC95-418F-8761-28F47E2F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AD30-4AD9-421E-A9FE-D8FB0EC1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8F21-84EC-4086-ABA4-572339E2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601D-11F5-48D4-99CE-C1682748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830C-1EEC-4757-99F8-BC376AFE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B4DB-C147-46A2-ABB3-CFE83A6A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55E5-A287-4382-B3A2-4CD7A732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B8A3-100E-4E1E-ACAD-543DC3EC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4BB7-2D73-4910-9615-E928EEEBC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Fab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nec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lak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ic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as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8. kick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9. lock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10. poke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11. packag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40384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Lic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6. Pac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7. woe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-360"/>
            <a:ext cx="44956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2. wrec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Fables</a:t>
            </a:r>
            <a:br>
              <a:rPr sz="35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nec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ic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pac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lak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loc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6. kic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Fables</a:t>
            </a:r>
            <a:br>
              <a:rPr sz="40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28240" y="16002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ack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re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pa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tock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7960" y="15998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8. stick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9. drink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0. peaco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1. stru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-2666880" y="3808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c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ac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.  quick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228240"/>
            <a:ext cx="44956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. nickna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. pack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. crack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228240"/>
            <a:ext cx="40384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2. spea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3. stu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4. quickl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-2895480" y="6858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.  quick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0:54:43Z</dcterms:created>
  <dc:creator>Kathryn.Cobb</dc:creator>
  <dc:description/>
  <dc:language>en-US</dc:language>
  <cp:lastModifiedBy> </cp:lastModifiedBy>
  <dcterms:modified xsi:type="dcterms:W3CDTF">2008-11-17T23:52:21Z</dcterms:modified>
  <cp:revision>7</cp:revision>
  <dc:subject/>
  <dc:title>The Art Lesson Group A</dc:title>
</cp:coreProperties>
</file>